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EA6-8E71-4D4E-BE15-00AD235D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EF7-4D2B-4F67-9B96-ABE111C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F12-092F-41D7-B498-94A3FB09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0F7-1C47-43DE-94E6-E21A612E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8565-D71F-425C-A1B9-888A20C2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DBC2-B4F7-4C09-98AE-F02ADE5A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4C7-AF02-4A92-8171-4C1E0E0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D487-DB5E-4410-8B69-E713EEB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262F-005F-4F48-9926-8EA215AA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580D-74B6-4182-A5FD-0902F620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272-D3D9-44C3-9544-5A88CE3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9F8-4EED-4747-9392-9F97B89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113-6591-49E9-920D-5C5EC3F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EF3E-91A3-4B9C-A8D6-18E0E75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FFA-1E93-4F11-AB63-A24D4FD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7D71-8AC8-4DF0-B605-06EB9547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E57F-7EFD-41F0-B959-45BB1C96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BE72-194C-499B-ADF3-BCD2A4A0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07DA-88C2-4561-8307-9BC8325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6E77-C0D9-440A-949A-A4788B6D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077B-C650-4EDA-9E2C-55DB6F41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F03D-CEE7-4920-8984-45E4845B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4C5-0074-4D1F-B349-029306BE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3CD6-5875-4E13-9C32-39450E4C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23AF-F74A-4758-8963-6E3BA21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7D52-E3EE-41F0-AB62-26830B3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DCFF-5DDF-47D5-AA84-171AF05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C848-6B75-4C22-83B2-6DF59F5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DE64-E5AC-48B5-B2BF-A0349FF3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0A49-2073-402F-915B-83E0CFDE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68BC4-5454-413E-A6A0-40B10DAE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D05A-9169-4C4E-8676-1F05247C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C727-8BB6-48B6-8D72-16873738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9E6-310A-4164-A400-E9C978E1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0938-6435-4F8E-B6E4-DF55E392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B0AA-343D-426B-B952-52FD7FC3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C7C2-EFB1-4966-8287-D774AD7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2718-9C0C-486E-8C4E-3E0CA7E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5EBF-AD7A-408D-AAA4-F1F532C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D356-4551-4241-9C1F-54CCC46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A27D-D975-46E7-AD38-6F9BB7C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66A1-DE95-49C4-AC89-5002E4A6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7BAC-CD3E-4C29-8FD1-2C3F3F55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BA6-64C3-473E-A73C-305E45C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124-6C0B-457B-BB48-1AEDEDF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686-70D4-4C1B-8CEA-AC10638D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E10-3CB3-4B85-A2CD-9E174EA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E41-593F-4F30-AC2C-03B408A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880-F5D0-46F4-8983-3F449DB742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B981-E629-43B9-8018-476FEA12DE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75A-4B8A-4264-86D9-BAFF0056D2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97F2-EC12-465E-8C7E-8BFAFC2CEC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81160" y="1255680"/>
            <a:ext cx="8710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i Mi &amp; Zhi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E 632 – Fall,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iversity of Virgi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CRCCtrl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3" descr="CRCGenerator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CRCLoopBody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隶书"/>
              </a:rPr>
              <a:t>Optimization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etric: Total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activ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eakag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eff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kg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Kno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wer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DD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(subthreshold desig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bust, require C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horten operation d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"/>
              <p:cNvSpPr txBox="1"/>
              <p:nvPr/>
            </p:nvSpPr>
            <p:spPr>
              <a:xfrm>
                <a:off x="2004840" y="3124080"/>
                <a:ext cx="4810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echnology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M 90nm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ircuit Descriptio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tli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imulation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hematic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FPGA Advantage 7.0 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Cadence 2005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ulator: Ocean with Spect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3" descr="diagram1.bmp"/>
          <p:cNvPicPr/>
          <p:nvPr/>
        </p:nvPicPr>
        <p:blipFill>
          <a:blip r:embed="rId1"/>
          <a:srcRect l="0" t="2180" r="0" b="0"/>
          <a:stretch/>
        </p:blipFill>
        <p:spPr>
          <a:xfrm>
            <a:off x="1185840" y="2209680"/>
            <a:ext cx="677232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Spectre Simulation Res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086600" cy="4684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600200" y="53341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Data word: 0010 1001 0010 110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Key word:    1101 0010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Output:       1011 0001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396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kage Current 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Content Placeholder 8" descr="Snap1.jpg"/>
          <p:cNvPicPr/>
          <p:nvPr/>
        </p:nvPicPr>
        <p:blipFill>
          <a:blip r:embed="rId1"/>
          <a:stretch/>
        </p:blipFill>
        <p:spPr>
          <a:xfrm>
            <a:off x="2895480" y="1371600"/>
            <a:ext cx="5857920" cy="4495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152280" y="3581280"/>
                <a:ext cx="2743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TextBox 11"/>
          <p:cNvSpPr/>
          <p:nvPr/>
        </p:nvSpPr>
        <p:spPr>
          <a:xfrm>
            <a:off x="380880" y="1371600"/>
            <a:ext cx="23623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nential Reduction as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creases due to DIBL eff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4920" y="480060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akage Current is independent of  CLK r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Current Waveform in One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7010280" cy="4334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2133720"/>
            <a:ext cx="220968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avg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 = α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0→1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f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eff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DD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nstantia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2133720"/>
            <a:ext cx="23623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traight Connector 7"/>
          <p:cNvSpPr/>
          <p:nvPr/>
        </p:nvSpPr>
        <p:spPr>
          <a:xfrm flipV="1">
            <a:off x="0" y="2209320"/>
            <a:ext cx="23623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152280" y="3733920"/>
            <a:ext cx="2057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A higher CLK rate helps reduce energy consumption for a certa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tal Energy per CRC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52480"/>
          <a:ext cx="4038120" cy="4495680"/>
        </p:xfrm>
        <a:graphic>
          <a:graphicData uri="http://schemas.openxmlformats.org/drawingml/2006/table">
            <a:tbl>
              <a:tblPr/>
              <a:tblGrid>
                <a:gridCol w="785160"/>
                <a:gridCol w="852840"/>
                <a:gridCol w="1024200"/>
                <a:gridCol w="1375920"/>
              </a:tblGrid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8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6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3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6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4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Text Placeholder 29"/>
          <p:cNvGraphicFramePr/>
          <p:nvPr/>
        </p:nvGraphicFramePr>
        <p:xfrm>
          <a:off x="4724280" y="3429000"/>
          <a:ext cx="441972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Text Placeholder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3429000"/>
                    <a:ext cx="4419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m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y Consumption Pl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Snap2.jpg"/>
          <p:cNvPicPr/>
          <p:nvPr/>
        </p:nvPicPr>
        <p:blipFill>
          <a:blip r:embed="rId1"/>
          <a:stretch/>
        </p:blipFill>
        <p:spPr>
          <a:xfrm>
            <a:off x="3164040" y="1600200"/>
            <a:ext cx="597996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28600" y="1523880"/>
            <a:ext cx="289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ptimal supply voltage is around  0.3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energy consumption starts to dominate in the sub-threshold re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current is taking up a large proportion of average cur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C-processing circuit is simulated in FPGA and Ca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erage and leakage currents are simul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ergy consumption comparison for different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ptimization for minimum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ture 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multiple power supplies to speed up the critical p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up some parts of the circuit to increase sp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high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MOS to the PDN to reduce leak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Q and A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ap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security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" descr="RFID_backscatter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strain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ergy – foremost constra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seek to find a feasible way of implementing low-power data encryption on RFID ta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ib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ed the core hash function (i.e., CRC-Half) of CRC-MAC with PTM 90nm technolo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nergy at different operating vol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ve an optimal operating voltage point for CRC-MA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the trend of leakage current of the circu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1. A hardware implementation of CRC-MA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481040" y="1757520"/>
            <a:ext cx="618192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254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2. C implementation of CRC-MAC as keyed one-way 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781280" y="1662120"/>
            <a:ext cx="5305320" cy="4648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773360" y="2046240"/>
            <a:ext cx="216360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398680" y="5475240"/>
            <a:ext cx="4106880" cy="554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rcuit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3. A symbol view of CRC-Hal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Content Placeholder 4" descr="CRCHalf_sch.bmp"/>
          <p:cNvPicPr/>
          <p:nvPr/>
        </p:nvPicPr>
        <p:blipFill>
          <a:blip r:embed="rId1"/>
          <a:srcRect l="2509" t="29957" r="2509" b="16643"/>
          <a:stretch/>
        </p:blipFill>
        <p:spPr>
          <a:xfrm>
            <a:off x="217440" y="1879560"/>
            <a:ext cx="8690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RCEnable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7:30:54Z</dcterms:created>
  <dc:creator>QI MI</dc:creator>
  <dc:description/>
  <dc:language>en-US</dc:language>
  <cp:lastModifiedBy>JCC</cp:lastModifiedBy>
  <dcterms:modified xsi:type="dcterms:W3CDTF">2008-12-02T18:57:59Z</dcterms:modified>
  <cp:revision>293</cp:revision>
  <dc:subject/>
  <dc:title>Implementing Low-Power CRC-MAC for RFID Circuits</dc:title>
</cp:coreProperties>
</file>